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009-25D6-40B6-8892-E264FC3B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947-67FC-4053-A595-67C382B9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673-0DB9-48AC-B8C4-F95784E2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47F-9158-4FDD-A8E0-39A4B9B8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48A-4B40-4B97-A917-085F769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0C4-BA90-408A-9CE6-94193CAA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276-CE91-4C0C-AE62-F3F33CAE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8DB-3972-499F-9EF3-9F09085C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BE8-24B4-44C3-BA58-31394A2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6E3-A20D-4000-9A2C-2652F7B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A90-D01C-4CEF-BAF6-417D7E6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EB2-A9DE-4818-BDE4-A86001A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1F7-65BC-438C-9823-58D9E16B339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Comic Sans MS"/>
              </a:rPr>
              <a:t>OFFICINAL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3:31Z</dcterms:created>
  <dc:creator>Stefano Bona</dc:creator>
  <dc:description/>
  <dc:language>en-US</dc:language>
  <cp:lastModifiedBy>UNO</cp:lastModifiedBy>
  <dcterms:modified xsi:type="dcterms:W3CDTF">2012-05-05T17:51:48Z</dcterms:modified>
  <cp:revision>19</cp:revision>
  <dc:subject/>
  <dc:title>Diapositiva 1</dc:title>
</cp:coreProperties>
</file>